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DCEBC146-7E5E-4B5B-A9AA-DB1394C3E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91C-AB99-412A-8170-AC613404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4F8-84B8-43A1-BCDE-E9BD375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845-D5F6-427E-970F-130B5DA3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6BA-905D-477E-86B7-79C9205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7D7-480D-4F9F-ADC7-E0E14D9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870-037E-4E58-8A40-0129C0A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BC3-0C06-4FE2-A65B-B8652B5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F53-A905-4C71-BD7D-EC89A78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523-C450-47CA-B289-548E07E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82F-243C-448C-B1AE-1137E9B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F56-4569-491A-89AC-46543CB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F74-4DC6-46C0-BA11-B2F5F2D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5661FE-E58E-45C3-92C2-7F4CCA260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446560" y="2065320"/>
            <a:ext cx="5266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In Christ Alone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Christ alone my hope is fou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my light, my strength, my s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Cornerstone, this solid grou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rm through the fierces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ught and storm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heights of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depths of peac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fears are still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strivings ceas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y Comforter, my All in Al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love of Christ I st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Christ alone, who took on fles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ullness of God in helpless bab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gift of love and righteousnes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corned by the ones He came to sa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'Til on that cross as Jesus di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every sin on Him was lai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death of Christ I li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n the ground His body l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ght of the world by darkness sl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 from the grave He rose ag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's curse has lost its grip on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I am His and He is mi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ought with the precio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od of Chris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guilt in life, no fear in dea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is the power of Christ in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life's first cry to final brea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esus commands my destin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power of hell, no scheme of ma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 ever pluck me from His h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ll He returns or calls me ho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power of Christ I'll st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6-07-26T21:17:49Z</dcterms:modified>
  <cp:revision>1917</cp:revision>
  <dc:subject/>
  <dc:title>Slide 1</dc:title>
</cp:coreProperties>
</file>